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2710-44DE-4ACE-8BB0-8131F383C91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B7E8-C506-4AB8-868D-38A771BCE0E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F7C-D75C-48F9-86F3-C2F6DF6C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C51-C5D1-47F5-A81E-BAA7FC9E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094-14B7-4FD5-9137-D4F37B97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B21-0553-4BDB-AC28-D4EC9E85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A263-E6D8-4B21-88DD-4747D9F5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6231-2D2C-403C-A214-403723D9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0EA3-7924-4A8C-9082-8EF3D6C8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5A18-ECFA-495C-83F2-6677DC24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3366-BBA4-4AE1-83CF-BAB080DC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BB69-409F-4586-ADC1-A39FF951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6F22-048B-4256-BCD6-E39CE775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791-097A-43A3-ADF0-DEA19183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C049-8E3A-4D24-8E82-50D054F9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851A-9679-44C6-8F31-8DA640BC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0842-18DE-4F8E-869C-7CAB7F42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84ED-9412-41B0-92B5-8AF4EAE7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BEF8-20DB-435D-A349-97EE7AD7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225-98AF-4F1B-9A6E-0D3AACBB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726-82C3-40B0-9FCF-8AE15D8B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778-E324-466F-B534-48654079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E6A-2C2D-479B-B6C0-2AE543D0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803-2BE4-4161-9725-9C2F3ADF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124-FB51-4722-9013-98936F8D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71B-209D-4C84-97E6-262399A6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9D91-51CF-46CE-9701-CAB70A42CF9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2" descr="Logo NSRF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88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D84C-B13F-4771-86A6-FA3C08AF024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0" y="1052640"/>
            <a:ext cx="9144000" cy="7272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6524640"/>
            <a:ext cx="9144000" cy="7308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0" descr="Logo NSRF"/>
          <p:cNvPicPr/>
          <p:nvPr/>
        </p:nvPicPr>
        <p:blipFill>
          <a:blip r:embed="rId1"/>
          <a:stretch/>
        </p:blipFill>
        <p:spPr>
          <a:xfrm>
            <a:off x="0" y="1089000"/>
            <a:ext cx="4932360" cy="5399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2"/>
          <p:cNvSpPr/>
          <p:nvPr/>
        </p:nvSpPr>
        <p:spPr>
          <a:xfrm>
            <a:off x="4932360" y="2205000"/>
            <a:ext cx="4211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5580000" y="47530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4932360" y="1644480"/>
            <a:ext cx="42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пция относно цели, приоритети и мер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бластта на административния капац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техническата помощ, които да бъдат финансирани през програмен перио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4-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5651640" y="56624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Ирена Първан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Директор на дирекция ОПТ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Функционираща система за управление на средствата от ЕС в съответствие с принципите на доброто управ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1.Мерки, свързани с осигуряване на ефективно, ефикасно и регулярно изпълнение на политиките свързани с усвояване на средствата от СКФ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държане, развитие, оптимизиране и гарантиране на устойчивост на системата за управление, координация, мониторинг, контрол и одит на средствата от 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крепа за изпълнение на стратегически дейности на системно ниво, свързани с използване на средствата от СКФ на 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игуряване на информация и публичност за средствата от ОС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Мерки, свързани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витие 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усъвършенстване на информационните системи за управление на средствата от ЕС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ерки за поддържане, развитие и допълнително усъвършенстване на ИСУН 202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не на условия за функциониране на ИСУН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Транснационално сътрудничество: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сърчаване на взаимното обучение, с цел повишаване ефективността на политиките, подкрепяни от ЕСФ, като включва партньори от най-малко две държави-чл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Мерки за обмяна на опит и експерти, координиране на съвместни действия в отделни области на взаимодействие, обмен на информация и добри практики за прилагане на принципите на добро управ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НОГОФОНДОВО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ФИНАНСИРА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ост от обвързаност и интегрираност на мерките с цел , постигане на синергия и цялостен резултат от прилагането 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ост от една обща политика и стратегия, съчетаваща в себе си мерки свързани с повишаване на административния капацитет на публичните институции и съдебната система, както и гарантиране на ефективността и устойчивостта на системата за управление на средствата от 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Благодаря за вниманието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165720"/>
            <a:ext cx="22334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„Европа 2020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цифрова Европа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нкретни препоръки по страни (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Елементи за Обща стратегическа рамка за периода 2014-2020 (работен документ на Европейската коми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зиция на службите на Европейската комисия за подготовката на Споразумението за партньорство и програмите в България за периода 2014 – 2020 (проек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на Европейския парламент и на Съвета за определяне на общоприложими разпоредби за ЕФРР, ЕСФ, КФ, ЕЗФРСР и ЕФМДР, обхванати от Общата стратегическа рамка, и за определяне на общи разпоредби за ЕФРПроект на регламент за Европейския социален фонд (ЕС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за Европейския социален фонд (ЕС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за Европейския фонд за регионално развитие (ЕФР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Доклад на Европейската комисия до Европейския парламент и Съвета относно напредъка на България по Механизма за сътрудничество и проверка (18.07.2012 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националн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за развитие „България 2020“ (Н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за реформи Европа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нвергентна програма на Р България 2012-2015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развитие на държавната администрация до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овационна стратегия за интелигентна специ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бща стратегия за електронно управление 2011-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„Цифрова България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и националн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лан за намаляване на административната регулаторна тежест за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Актуализирана стратегия за децентрализация 2006-20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продължаване на реформата на съдебната система в условията на пълноправно членство в Европейския съюз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ждинна оценка на НСРР 2007 –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ждинна оценка на ОП „Административен капацитет“ 2007 -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Обща стратегическа це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492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вишаване ефективността и ефикасността на публичната администрация и съдебната система за провеждане на политики и предоставяне на услуги на гражданите и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: Модернизиране на управлението за предоставяне на висококачествени публични услуги за гражданите и бизнеса. Повишаване ефективността на администрацията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Повишаване на институционалния капацитет на публичната администрация за провеждане на политики и предоставяне на качествени и интегриран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1. Мерки, свързани с провеждането на политики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обряване на процеса по разработване и провеждане на политики и интелигентно регулиране за намаляване на административната теже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на организационното развитие за ефективни административни структу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усъвършенстването на политиките за развитие на човешките ресурси и въвеждане на практики и стандарти за тяхното упр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участието на гражданското общество при разработването и прилагането на поли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не на Председателството на Р България през 2018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: Модернизиране на управлението за предоставяне на висококачествени публични услуги за гражданите и бизнеса. Повишаване ефективността на администрация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2. Мерки, свързани с предоставянето на интегрирани административни услуги, включително електронно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витие на съществуващата и изграждане на нова информационна инфраструкту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веждане на нови и подобряване на съществуващите услуги, включително тяхното интегрир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вишаване на информираността на гражданите за дейността и отговорностите на държавните институции и предоставяне на публичен достъп до съответните бази дан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 : Осигуряване на качествена и независима съдебна систем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Продължаване на реформата на съдебната система и повишаване на нейната ефективност и ефикас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. Институционални ме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крепване на капацитета на правосъдните и правоприлагащите орг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вишаване на квалификацията на магистратите, съдебните служители и разследващите орг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2.Мерки, свързани електронно правосъд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недряване на информационни системи, ориентирани към обслужването (електронно правосъд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ъздаван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 стандарти за обучение в областта на информационните технологии, специализирани за магистрати и съдебни служ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5:28:34Z</dcterms:created>
  <dc:creator>Milena Pehlivanova</dc:creator>
  <dc:description/>
  <dc:language>en-US</dc:language>
  <cp:lastModifiedBy>Ирена Първанова</cp:lastModifiedBy>
  <dcterms:modified xsi:type="dcterms:W3CDTF">2012-10-16T07:09:36Z</dcterms:modified>
  <cp:revision>245</cp:revision>
  <dc:subject/>
  <dc:title>НАЦИОНАЛНА СТРАТЕГИЧЕСКА РЕФЕРЕНТНА РАМКА</dc:title>
</cp:coreProperties>
</file>